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207E-D32C-4697-8829-34849D06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F506-B6A1-4BCB-9009-CDC14AE6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47C6-AF27-46BE-A8E6-7492FFF4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A95B-0DF3-4372-87AE-99B99D98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34A5-4917-4501-B899-FE965801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0C2-7E27-4E80-91C8-D54B5607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B52B-7FE0-484F-91AB-C8991650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B2E3-2619-4373-8FA0-5DF3A60D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038-673C-47CC-9D1C-AFF6F90E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70DA-AA6C-478A-868C-280E61CE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7FD-E407-455C-A94C-35E932EF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B28-268D-4709-BB9C-F879A544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1AC3-44B6-4C03-BA0F-EC1AB5636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and Ordering Inte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4160" y="1941480"/>
            <a:ext cx="52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 Finding opposite and absolut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800" y="2021040"/>
            <a:ext cx="2381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po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bsolut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5800" y="2108160"/>
            <a:ext cx="486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Numbers that are the same distance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zero on a number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97560" y="3200400"/>
            <a:ext cx="584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he set of positive whole numbers, their oppo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and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10880" y="4343400"/>
            <a:ext cx="615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he distance a number is from zero on a number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629400" cy="31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5345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77240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34160" y="544680"/>
            <a:ext cx="512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2: Graphing and ordering inte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7696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5345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23:43:10Z</dcterms:created>
  <dc:creator>Graham</dc:creator>
  <dc:description/>
  <dc:language>en-US</dc:language>
  <cp:lastModifiedBy>Graham</cp:lastModifiedBy>
  <dcterms:modified xsi:type="dcterms:W3CDTF">2011-08-30T23:43:20Z</dcterms:modified>
  <cp:revision>1</cp:revision>
  <dc:subject/>
  <dc:title>Lesson 1.6 Comparing and Ordering Integers</dc:title>
</cp:coreProperties>
</file>